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790827"/>
        <c:axId val="78874152"/>
      </c:barChart>
      <c:catAx>
        <c:axId val="50790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74152"/>
        <c:crosses val="autoZero"/>
        <c:auto val="1"/>
        <c:lblAlgn val="ctr"/>
        <c:lblOffset val="100"/>
        <c:noMultiLvlLbl val="0"/>
      </c:catAx>
      <c:valAx>
        <c:axId val="78874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90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912-4D20-4D72-9CFD-AD93EE77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4093-8B15-4B3E-8595-AC557BF7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44F-4FE1-4B41-B4B3-7383687B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247-14A5-4B8F-8D88-25D995E6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A0E-9B70-49A5-9ABB-E1DAEDC0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F63-39A9-4508-B379-D7E7B455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1C7-4DB2-47AD-B109-9D20879A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338-2B69-4711-99A6-0C08ECE6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023-DC90-4350-BEA2-8BC356C0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5DF-59B5-456F-9B23-288EBE1E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259-67F9-477F-8606-5FD5B854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D593-6DA2-4EBD-B290-D454E0A5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23E75-E887-4D10-B1E8-440910D2A6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