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04777"/>
        <c:axId val="82431297"/>
      </c:barChart>
      <c:catAx>
        <c:axId val="97904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1297"/>
        <c:crosses val="autoZero"/>
        <c:auto val="1"/>
        <c:lblAlgn val="ctr"/>
        <c:lblOffset val="100"/>
        <c:noMultiLvlLbl val="0"/>
      </c:catAx>
      <c:valAx>
        <c:axId val="82431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4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825-0106-4300-AD4F-E22621A2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520-E82C-4E72-84A0-24E3AD11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936-AD76-43C1-A6AF-B3E40E1D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D9F-E727-4954-8317-07319C31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77C-40BD-482A-A731-C1F5CF4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868-7676-40DF-A69D-7DA8CA3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8B4-56D0-449B-B332-E34E1C5E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458-F973-4328-BC3F-5F2BA72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FA4-8CDB-4D36-8450-EFC796CD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171-E3CB-4189-AB82-277C2DD8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1A6-9F31-4737-9F90-B2EFC3F7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DB3-5FF5-4374-887F-595CB9C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DC0DC-D9AB-4895-80FB-E834E111C4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