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5014432"/>
        <c:axId val="93259393"/>
      </c:barChart>
      <c:catAx>
        <c:axId val="6501443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259393"/>
        <c:crosses val="autoZero"/>
        <c:auto val="1"/>
        <c:lblAlgn val="ctr"/>
        <c:lblOffset val="100"/>
        <c:noMultiLvlLbl val="0"/>
      </c:catAx>
      <c:valAx>
        <c:axId val="9325939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01443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AEDD-E239-40E2-B8F3-9D508B123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1C1F-403C-4C65-A706-02C1F25DC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9873-8CA0-4C57-92EA-A8AD5B2E4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306B-6274-468E-B7C6-8E1A89C71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2CC0-8C04-4C5F-B944-2D88E311A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2718-8961-4390-80A1-487AF47A5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9D29-FA29-4EDB-8533-9125F3749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F89D-7951-42C9-8716-0B0D03306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C899-5C13-4C4F-A2E3-D9B979005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65E3-D093-42A6-A418-476709869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A0D4-EB97-4623-84EB-CB84C453E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46AB-62BD-494C-AA9C-1D4EDFD05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65C2B6-F0AF-44CA-BA50-3D4AA9DD35B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