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306696"/>
        <c:axId val="98416564"/>
      </c:barChart>
      <c:catAx>
        <c:axId val="603066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416564"/>
        <c:crosses val="autoZero"/>
        <c:auto val="1"/>
        <c:lblAlgn val="ctr"/>
        <c:lblOffset val="100"/>
        <c:noMultiLvlLbl val="0"/>
      </c:catAx>
      <c:valAx>
        <c:axId val="984165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3066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7798-4A28-4845-8058-2506B4D40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B41B-72DF-4641-A836-BF96BA5E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20F0-C745-4FB4-91BA-07E523F2F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1494-1BE8-46F6-9A33-5D99C6973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3C2D-9372-480A-9D76-EE7BF581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DA1A-4293-47F7-8E43-0A7EF6E4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CF1F-48C8-4555-A8F1-1BEB30121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4471-9CCE-4109-88E3-E0B26A82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6630-C37D-4C6C-89DA-3A993828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0A02-3495-4174-BF98-CDF99F31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8804-10AC-420A-A620-B8AEDC6C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9194-EAE2-4F91-9B8A-B9BEF2F7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82B0FB-6677-4A80-A719-6F2C317444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