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63327"/>
        <c:axId val="35189092"/>
      </c:barChart>
      <c:catAx>
        <c:axId val="75663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9092"/>
        <c:crosses val="autoZero"/>
        <c:auto val="1"/>
        <c:lblAlgn val="ctr"/>
        <c:lblOffset val="100"/>
        <c:noMultiLvlLbl val="0"/>
      </c:catAx>
      <c:valAx>
        <c:axId val="35189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63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5D9-EF5D-4A30-B772-643D7BC3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CD9-9A15-43CD-A202-6F9A0726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2E3-3D19-4EA3-8FE3-99C89D45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AD9-3BE2-4725-B64D-005396E7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67C-9E84-4835-8AC9-236AA0F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6F7-65F2-4A2B-AC0A-9D07A0F6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DE8-EC93-4F30-ADA7-8C1A4E3B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284-9F45-43EB-B330-903B94C8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93D-4356-4D8D-B708-EA2B72AF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A85-8005-45FD-A8A9-2763AD8F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8D8-CBCE-4F64-A346-D9ADAD9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D37-DA3B-4DB4-8CF7-D2BB88D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DD7AB-D8BA-4EA1-B7CB-14C3781F81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