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073538"/>
        <c:axId val="49400914"/>
      </c:barChart>
      <c:catAx>
        <c:axId val="560735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00914"/>
        <c:crosses val="autoZero"/>
        <c:auto val="1"/>
        <c:lblAlgn val="ctr"/>
        <c:lblOffset val="100"/>
        <c:noMultiLvlLbl val="0"/>
      </c:catAx>
      <c:valAx>
        <c:axId val="494009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735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CA28-9C76-41D0-97AA-5C4DC56F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B06-5657-44E5-AA15-3304B833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BE43-2592-46DF-894A-5B0736B7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C672-F0F3-4879-8320-3D7614A9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61E7-8A39-4592-8422-0AAC0ADD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714-F8D5-4774-BA42-1CCDB3F8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6090-68B6-4205-9DF7-D3B27216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439A-B4F3-4876-BCCB-7D4E0C25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8C8-7656-4FF9-8B9E-1F71767C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1C1C-57F1-47EB-A6F6-F41E0BE6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7470-5AFE-4F97-B7BD-BE3E2ADF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6E3-9D0C-417C-90D6-6077791D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2EC8E-6C81-4A37-B6A0-E8E0A70C4E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