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21812"/>
        <c:axId val="86647978"/>
      </c:barChart>
      <c:catAx>
        <c:axId val="37821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47978"/>
        <c:crosses val="autoZero"/>
        <c:auto val="1"/>
        <c:lblAlgn val="ctr"/>
        <c:lblOffset val="100"/>
        <c:noMultiLvlLbl val="0"/>
      </c:catAx>
      <c:valAx>
        <c:axId val="86647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21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BB4-F834-4E90-BE23-9996A836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1B1-BBFA-4F8D-B467-447DF32E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89C-F148-4FA1-BDEF-8956618E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2CF-E9B6-4891-855D-AAC011D8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8FF8-4CF0-4730-B53D-4CBC2CE7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8C5-924F-4477-B992-B6A13E88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2F4-44FA-4802-92F6-EFB5CDE9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2CD-0DAB-4474-82A5-037A48B9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9DE-DEA0-4472-BBB7-809B9E2A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0B7-5AEF-4492-B842-06C21F18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03B-BB31-4AAB-ADED-9095FAC0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982-C3B0-4D50-B922-0FA47484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F1445-2BAF-4F50-A859-7DC5CE0C75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