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42538"/>
        <c:axId val="27204254"/>
      </c:barChart>
      <c:catAx>
        <c:axId val="69142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04254"/>
        <c:crosses val="autoZero"/>
        <c:auto val="1"/>
        <c:lblAlgn val="ctr"/>
        <c:lblOffset val="100"/>
        <c:noMultiLvlLbl val="0"/>
      </c:catAx>
      <c:valAx>
        <c:axId val="27204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42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B6A-7508-46CF-B179-3A5AF0EC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A06-F51C-4C4D-9C5C-1BD1B78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D80-CDB9-46C9-8BDB-8669776F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0AF-2D93-446D-804C-D4EB3ECD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ABE-AEA5-428D-B63C-BDBB146C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F3B-CFB8-4768-946F-26F396A3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BF7-D5A2-4FB1-8F21-66445049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379-0CF4-4D58-8C3A-9CD595E2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6C3-E13E-4FBD-B495-E01CD4F6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1DA-9DEA-4736-84B3-408080B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F94-8B11-4F10-9A13-EF73FE8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08F-562A-4196-B9AC-A449F880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3BE37-9735-4A8C-857B-4647F08CE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