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21141"/>
        <c:axId val="37101004"/>
      </c:barChart>
      <c:catAx>
        <c:axId val="17421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01004"/>
        <c:crosses val="autoZero"/>
        <c:auto val="1"/>
        <c:lblAlgn val="ctr"/>
        <c:lblOffset val="100"/>
        <c:noMultiLvlLbl val="0"/>
      </c:catAx>
      <c:valAx>
        <c:axId val="37101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21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9B6-9705-4D71-B96D-F5447D6B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0E8-9977-4BC4-93FF-6D0BA2F7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A1F-7634-43D4-91D5-1D0A027C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4F1-0B15-4729-8FBF-E0F81D5E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EAF-C9A1-449D-A409-EA63A1A7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832-6D96-4F7E-98E6-2471D4BF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253-844E-4CB5-9459-99782698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228-3D61-4D1F-A0EB-9B02C245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441-3C3D-4910-9D98-BBB126E5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00C-C226-4D62-88FC-3A66E3E6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41E-D0E7-406E-BBFD-BA2CDC80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1AD-8B87-4910-80AA-D79BDDBA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D8C23-58A9-478F-9F6C-CA0EC70E9B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