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086686"/>
        <c:axId val="21980666"/>
      </c:barChart>
      <c:catAx>
        <c:axId val="73086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80666"/>
        <c:crosses val="autoZero"/>
        <c:auto val="1"/>
        <c:lblAlgn val="ctr"/>
        <c:lblOffset val="100"/>
        <c:noMultiLvlLbl val="0"/>
      </c:catAx>
      <c:valAx>
        <c:axId val="21980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86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B64F-BF7E-45F7-B9AF-6F25B4AB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B39-46FB-4D60-A845-6D888CBA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F95-1AAA-46DA-A53B-9B5BC8FB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372-9875-44FE-B938-659BE791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D897-0B84-4590-97A8-FB3C4F3D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F084-4EDA-4F02-A165-6E0896C6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FA03-FC39-4C48-A6FD-7E301450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BDE-F503-41D2-B99C-6600138D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561C-4D39-4B74-8733-FB4689E3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331F-7E27-4C76-9193-31EFB611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910E-78BF-4E71-8B00-57FADE82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DD0-F668-47B4-BB88-E8C01E84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3F28F4-892F-4076-AF77-37EEE9E1F2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