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16374"/>
        <c:axId val="80796507"/>
      </c:barChart>
      <c:catAx>
        <c:axId val="71816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96507"/>
        <c:crosses val="autoZero"/>
        <c:auto val="1"/>
        <c:lblAlgn val="ctr"/>
        <c:lblOffset val="100"/>
        <c:noMultiLvlLbl val="0"/>
      </c:catAx>
      <c:valAx>
        <c:axId val="80796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16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1E6-0EE5-468D-A111-E5C2B074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2B6-62C2-465E-B856-2E3FE3B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5DE-7FFE-481E-9C12-29BEC45C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1D7-C857-4A42-90D3-AA426B2A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361-2AA6-4B2F-973C-32339BAC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955-BD0F-46B4-A470-98AAD336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178-B45C-447E-BD95-9E48C278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2DF-E9C9-414A-B403-0351DDFC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427-2261-4C9E-BF54-B1E0DB95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0D5-3337-44D8-BE6F-326C038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756-BDF6-4F16-A6D9-B9A03342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E2D-1341-4758-AFCC-CF2B7D3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25F53-A461-4D7D-83E4-645D48F025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