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93834"/>
        <c:axId val="79144018"/>
      </c:barChart>
      <c:catAx>
        <c:axId val="606938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44018"/>
        <c:crosses val="autoZero"/>
        <c:auto val="1"/>
        <c:lblAlgn val="ctr"/>
        <c:lblOffset val="100"/>
        <c:noMultiLvlLbl val="0"/>
      </c:catAx>
      <c:valAx>
        <c:axId val="791440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938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6791-1F85-400F-AC40-9DBAC58D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9D95-ED85-4162-863E-32BD0CF9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518C-1B66-4296-87F0-6CD8B2C2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8E4D-0FBC-4BF3-AC43-EEEBCBB1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0898-5EA9-4BB6-90C1-20AD04A1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586D-709C-4428-BD7F-B8ED7E1A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9615-EF30-484E-8193-3B3482A9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1149-12F9-4A34-93EC-D1124FEA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4D34-D6AC-4330-B742-7F0D6463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C1A5-47DD-4A1E-B186-0A12346D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7FB-9CC8-4904-820F-B8B02DB8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9C31-3F67-4B97-9643-D0FFE530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86EA7-6D29-461C-87BC-E66E93E102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