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761106"/>
        <c:axId val="70117315"/>
      </c:barChart>
      <c:catAx>
        <c:axId val="497611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17315"/>
        <c:crosses val="autoZero"/>
        <c:auto val="1"/>
        <c:lblAlgn val="ctr"/>
        <c:lblOffset val="100"/>
        <c:noMultiLvlLbl val="0"/>
      </c:catAx>
      <c:valAx>
        <c:axId val="701173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611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6A76-99AF-4E9B-8490-2850B829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862-9AA3-44FE-8B2A-45872BED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9FB6-9BDC-4812-AA29-402EF28D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B3EF-C39D-484D-B457-F92C0A87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E82D-E2F9-46AF-87E1-C61CF433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DE11-810F-4F9B-8D94-C413A297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F373-508B-4AF7-86C6-4E74CA77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020D-7DC1-40DC-8449-69D3EA3C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3FEB-566D-4262-9C69-60DB7DE5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8DA4-A858-4D6D-BEA5-0BD961D5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3ED8-1FB6-4CE2-B7AE-67D5FDD5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7141-FBDE-4F87-9CBE-6FB5C40B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81A4B-87E8-46B4-81C3-FB61BC2634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