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50984"/>
        <c:axId val="9112257"/>
      </c:barChart>
      <c:catAx>
        <c:axId val="35550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2257"/>
        <c:crosses val="autoZero"/>
        <c:auto val="1"/>
        <c:lblAlgn val="ctr"/>
        <c:lblOffset val="100"/>
        <c:noMultiLvlLbl val="0"/>
      </c:catAx>
      <c:valAx>
        <c:axId val="9112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0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81E-36CB-435B-85E4-01158DEA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260-5CD0-4D04-8537-6E6F253E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09B-1A0C-4AF9-8C10-12FF9B2C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E09-F5C1-48D4-A222-9E38E4EC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5A2-FAAD-4D60-8CD8-7795B5B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B04-6C93-4CD5-AC47-F189A04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9D9-F69C-4BF5-83A0-1D8DD8B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1FC-1977-4388-9EB7-64D7AA1C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4C7-C293-4AA0-B7CC-20C6A3C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9DE-1589-499C-9D85-FA21D00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12A-D148-40CC-AEF2-77AF5D4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94A-0F26-4B29-9799-ECF2EEF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6ADE-4F4B-4AD9-B117-1AC238A181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