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54140"/>
        <c:axId val="35340585"/>
      </c:barChart>
      <c:catAx>
        <c:axId val="51154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40585"/>
        <c:crosses val="autoZero"/>
        <c:auto val="1"/>
        <c:lblAlgn val="ctr"/>
        <c:lblOffset val="100"/>
        <c:noMultiLvlLbl val="0"/>
      </c:catAx>
      <c:valAx>
        <c:axId val="35340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54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E9C-F0A4-45BD-86D7-701FA762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E33-5292-44D9-8053-558DBC56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D97-8185-46D9-BA44-1A94AEE7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4E3-AE55-4DC0-A96D-9D04965D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B27-9AB3-4B3F-A519-7B36B332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2F0-3021-49AC-BFD3-DD495901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283-CE51-4A54-9C1A-8AD81C6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216-1EBD-4B6D-8109-D9C79767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E9F-863C-46C8-9F89-BF7BA3E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85C-2456-4B7D-B0F8-46ADE573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18A-D38F-491E-BEB7-F3ABDDA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3F3-C89B-4E24-898C-7BFA0712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11FF5-AD1E-43C5-83A3-7DAC61B708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