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479143"/>
        <c:axId val="95188149"/>
      </c:barChart>
      <c:catAx>
        <c:axId val="484791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88149"/>
        <c:crosses val="autoZero"/>
        <c:auto val="1"/>
        <c:lblAlgn val="ctr"/>
        <c:lblOffset val="100"/>
        <c:noMultiLvlLbl val="0"/>
      </c:catAx>
      <c:valAx>
        <c:axId val="9518814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4791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CA770-867F-47B6-9E9A-1C0CCCBD1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D0F8-8834-4E62-B500-687CB61AC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1D0B2-2B8B-49B8-A26B-A15307ABE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D15B-EC37-4A31-89D1-49499BA1E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1B0B9-1367-4DC0-9494-6790A1F3B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9E85-E85E-4773-B029-34E73E96F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427F-9294-4767-A0B6-4F9887AA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5CA1-D0E4-438A-8407-C3A4A763A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CB277-7890-4DEB-972A-52C2F9F8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75EA-1B87-4DDC-AF61-5AED741A6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3D88-8E5C-48B7-915C-33EC53B3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6CBC-79D8-4CF0-954A-828C08B3C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EC3C7A-1167-4BF8-BBB2-56533755C6F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