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59752"/>
        <c:axId val="40762574"/>
      </c:barChart>
      <c:catAx>
        <c:axId val="48959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2574"/>
        <c:crosses val="autoZero"/>
        <c:auto val="1"/>
        <c:lblAlgn val="ctr"/>
        <c:lblOffset val="100"/>
        <c:noMultiLvlLbl val="0"/>
      </c:catAx>
      <c:valAx>
        <c:axId val="40762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9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3DD-23ED-43DA-8E8D-E0F9F29B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DD0-AC71-4EE3-A6B0-94BB424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6CA-B54A-4EDF-ACAA-C4E1145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FCC-93D0-4DC3-8DAC-AE0F9AA2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AEA-7126-4E43-93C2-70EE537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267-C434-4206-81A0-4DF4010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288-1A48-49AB-A98A-0F72DEE5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B55-5929-42F7-8BC5-6779017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D04-FB8E-4B03-AEE6-651DE25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4FD-5210-4D05-A49E-AA4CA2E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7BD-D46B-4AF4-A2B1-7EAC967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725-712B-474F-86B1-ED0C5C5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5AD3-747B-49C4-8F16-D5699CC44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