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33345"/>
        <c:axId val="69461696"/>
      </c:barChart>
      <c:catAx>
        <c:axId val="63933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61696"/>
        <c:crosses val="autoZero"/>
        <c:auto val="1"/>
        <c:lblAlgn val="ctr"/>
        <c:lblOffset val="100"/>
        <c:noMultiLvlLbl val="0"/>
      </c:catAx>
      <c:valAx>
        <c:axId val="69461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3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83D-938B-4783-85A4-6D1E8A0B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C22-9F93-47DD-9D95-42F33A9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5DB-C89A-48A9-B1FF-426327FB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F54-F193-42F3-A5AB-5E1297C4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1AC-FE74-4839-92A2-31B81297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00B-FCA8-461C-ABFF-6CA12948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FE6-13CC-494C-917D-E3ED1DB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91D-24EB-4B57-88CF-DFFF114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2C3-BDAA-4B9C-BE6F-BEF69EC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C71-2347-4D85-823B-3596F9A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BE9-4AC8-43AB-B250-5A31F9B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1DD-53C7-4128-AC59-EA9FCBB3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AA930-AAD4-461E-A69B-5A92CD8A53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