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85064"/>
        <c:axId val="53947107"/>
      </c:barChart>
      <c:catAx>
        <c:axId val="34850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47107"/>
        <c:crosses val="autoZero"/>
        <c:auto val="1"/>
        <c:lblAlgn val="ctr"/>
        <c:lblOffset val="100"/>
        <c:noMultiLvlLbl val="0"/>
      </c:catAx>
      <c:valAx>
        <c:axId val="539471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50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3D53-F19B-43D1-8324-BCBB2A58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F494-65C3-4F80-9B08-91FC6904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A9DD-2DDA-4B87-9F8C-CCC9151E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E57B-B4DD-42AA-BD7C-BF5EA11D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82C8-8699-48F6-978A-456F9B16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D822-E163-4421-A2ED-57364BD6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E550-297A-4BAA-8567-2350B3AB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9CE8-C91E-4CE5-80B2-D600A278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B622-5379-43FD-A6A9-FB4F9452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B667-A45B-4A60-A29C-A8C394EA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A57F-9BB1-4BB0-A327-3D2BAE8D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C225-F750-4926-A3BB-E8ADF1FD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1E751-D87F-4A1D-819D-0CDEB04EA9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