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05758"/>
        <c:axId val="65998478"/>
      </c:barChart>
      <c:catAx>
        <c:axId val="42805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98478"/>
        <c:crosses val="autoZero"/>
        <c:auto val="1"/>
        <c:lblAlgn val="ctr"/>
        <c:lblOffset val="100"/>
        <c:noMultiLvlLbl val="0"/>
      </c:catAx>
      <c:valAx>
        <c:axId val="65998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5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837-A17B-4209-B22C-4431803F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695-8C3B-404A-85A0-8D7CCE7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7DA-790D-4FD4-B4B2-947B138C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DE8-C0FA-49BD-8AE8-4896AC2C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C4E-732C-4E99-A441-7E41C7B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EE3-0379-43CB-AD09-43BDBB3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4DE-A556-453D-A2CB-2DF1F7F0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22F-C76E-4D2E-B9DC-BB0D3D29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158-A086-4C12-89DB-6C1A423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078-F7B3-4C6B-B626-FE4D828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FD6-AFC8-4D80-8270-F58119A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A78-4923-4E31-92ED-F43EAEE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26AF7-665B-4795-9D6E-06CED9F811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