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887332"/>
        <c:axId val="66399677"/>
      </c:barChart>
      <c:catAx>
        <c:axId val="478873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99677"/>
        <c:crosses val="autoZero"/>
        <c:auto val="1"/>
        <c:lblAlgn val="ctr"/>
        <c:lblOffset val="100"/>
        <c:noMultiLvlLbl val="0"/>
      </c:catAx>
      <c:valAx>
        <c:axId val="663996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873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D3A-BD74-4CFD-9849-4A6C1141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EFB7-9E8E-4930-8427-9B788230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696B-A489-4255-BA7A-CA510F04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B98-B923-4851-B922-CE2D3B6C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C3B4-740B-47A6-9761-3CA7ED26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0FA8-CBE3-41CC-BDC2-689D1BC4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4168-88C2-41B0-BB90-6669C3D3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8751-61FE-4E69-80A9-9CCBF654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08E0-CC93-4AED-AEED-6E419E6F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D5C-C520-408C-A3CA-83CB7EE6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A7FA-EAEA-43A1-93B3-CA785000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9E1E-D00C-46A2-B9A0-732DC151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8CC00-12AE-4B29-B387-42C62C03FD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