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49376"/>
        <c:axId val="29672129"/>
      </c:barChart>
      <c:catAx>
        <c:axId val="38249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72129"/>
        <c:crosses val="autoZero"/>
        <c:auto val="1"/>
        <c:lblAlgn val="ctr"/>
        <c:lblOffset val="100"/>
        <c:noMultiLvlLbl val="0"/>
      </c:catAx>
      <c:valAx>
        <c:axId val="29672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49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D7A-5D3E-49D6-A538-F655F87C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BE9-A742-43F9-891A-3033EE97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795-9C4B-484D-AF9A-A352F77C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6A8-974B-437E-9ED8-02675171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6AE-8E93-43B9-B10C-E5313E9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DD5-1596-44F6-B306-46F00ED8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4FC-DD48-45F6-AA4E-44A4A326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AA6-111B-449F-AD28-1BC60187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2A2-9C99-4477-8ED3-92BD3626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7B8-D0A4-4B80-A4E2-6C89E8A5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4D0-F826-4996-90E9-344C3F2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524-5B23-447E-9D5A-90BB140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9605B-9AC6-4603-A7F5-B19612EFA3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