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384778"/>
        <c:axId val="2373008"/>
      </c:barChart>
      <c:catAx>
        <c:axId val="203847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3008"/>
        <c:crosses val="autoZero"/>
        <c:auto val="1"/>
        <c:lblAlgn val="ctr"/>
        <c:lblOffset val="100"/>
        <c:noMultiLvlLbl val="0"/>
      </c:catAx>
      <c:valAx>
        <c:axId val="23730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847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A57E-CB8D-4B2E-B5D3-70C568C1A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7FBB-152A-4727-8B07-C7C545F9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E066-A274-4960-A915-A0FA8F4BF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23BA-5724-4FFE-88F8-0F9CFBA57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9C87-F239-466C-B238-27625FCD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9191-01E6-414E-82DE-E7A3C9A8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2E40-860D-436C-82CF-42700F9E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1C30-99D9-4261-95DB-7F6299F9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C7A6-716F-4CEC-92CE-78A72964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4806-B6EA-401D-9899-0A900863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ADD0-E36C-4119-8E2C-A7B46D77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6AB3-2699-438C-91EC-37ECBD80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B56B2-F573-41EC-8082-1DF8752EBA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