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53523"/>
        <c:axId val="35209"/>
      </c:barChart>
      <c:catAx>
        <c:axId val="25153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09"/>
        <c:crosses val="autoZero"/>
        <c:auto val="1"/>
        <c:lblAlgn val="ctr"/>
        <c:lblOffset val="100"/>
        <c:noMultiLvlLbl val="0"/>
      </c:catAx>
      <c:valAx>
        <c:axId val="35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53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C5A-C0ED-4E53-909B-BBA970D1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D86-FC65-4CCE-A2A2-C16857C1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A23-C5B6-432A-A495-D874C4DC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94B-C478-426D-8D7F-F1169D85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775-A892-4F55-92CC-92286E3D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423-3F02-40FF-90AE-CC76095F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6C7-25E2-4BA4-B4D8-1DD9BE13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37A-0CD5-482A-B9EA-420B22E0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D7E-CE1B-4BA5-88CB-2868A729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4E9-8E20-427E-92F2-081238F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F8A-EB2D-4136-8BA4-BA5147BF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768-5B9E-4EDA-AAFE-6B330BF3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D26AB-B8AB-44D3-9767-F06DD4B0CA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