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32825"/>
        <c:axId val="57977423"/>
      </c:barChart>
      <c:catAx>
        <c:axId val="45032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77423"/>
        <c:crosses val="autoZero"/>
        <c:auto val="1"/>
        <c:lblAlgn val="ctr"/>
        <c:lblOffset val="100"/>
        <c:noMultiLvlLbl val="0"/>
      </c:catAx>
      <c:valAx>
        <c:axId val="57977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32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D74-922F-4954-A983-AE931717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AF6-B790-47EE-996F-3A77B71B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8DD-8CA0-4724-B92B-F500C71D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7C5-D0E0-4710-A735-B9202BDB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D08-115F-4C98-8242-6AA4022A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BF4-2335-4B35-9C0B-4A3BCE6F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47F-6079-4521-8C9D-37CD49C4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44F-3157-4DD6-8AD8-A917015B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D0E-9C29-424F-9992-F415F8FA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FC0-A759-4692-B920-2F193D34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A88-14D5-4040-9F0B-DE044BD5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6A7-73A4-47F5-B5C6-062DE0B6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89B2D-2FDE-40A9-8A4A-415AE1F31D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