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8576"/>
        <c:axId val="20152560"/>
      </c:barChart>
      <c:catAx>
        <c:axId val="15585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52560"/>
        <c:crosses val="autoZero"/>
        <c:auto val="1"/>
        <c:lblAlgn val="ctr"/>
        <c:lblOffset val="100"/>
        <c:noMultiLvlLbl val="0"/>
      </c:catAx>
      <c:valAx>
        <c:axId val="201525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85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4015-6810-4161-9816-196CCFE9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231C-349D-41FB-A63A-795C7DA6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5A2-4D24-4CDC-B5FA-AAAF99E3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1830-8AE2-4C7E-BEEC-28EA8A7E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253-F857-4BF1-9D06-0959DE8D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331-738A-45A4-97DA-274DF59A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E3B6-0606-4278-BE75-682C6162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E372-3036-43CD-B5FC-A9015A50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ABD2-E348-4D03-8AF0-9E3F17AD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95ED-F99C-41F8-90BD-6847B8FB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DC5-8C0C-4595-BB7E-477F6594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5D0B-5FDF-435E-B7B1-028F708E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720F9-554D-42DE-866C-3BA4153DF1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