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67634"/>
        <c:axId val="71818250"/>
      </c:barChart>
      <c:catAx>
        <c:axId val="58967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18250"/>
        <c:crosses val="autoZero"/>
        <c:auto val="1"/>
        <c:lblAlgn val="ctr"/>
        <c:lblOffset val="100"/>
        <c:noMultiLvlLbl val="0"/>
      </c:catAx>
      <c:valAx>
        <c:axId val="71818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67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DB0-EB65-4F69-BADA-04397992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ABE-241D-49BD-BFE7-E8914D36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F3D-449D-4267-B4F6-D37DA421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E43-03D7-4296-9FC6-496C51C1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F64-CCCA-422C-9C53-A541AA3D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006-C960-488A-A2DE-342E9E57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1A1-D22A-4AF6-946E-181692B9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F86-6DF3-4E3F-A1EB-AEE131DC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52D-0A27-4320-BF33-D8658D2C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1C2-74E6-4407-95CD-B11081FF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6CD-D623-46B4-8ED9-CAEF111D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B42-6965-4093-AE66-97D7F40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1FCFF-0169-4BBB-A707-24051F1F0C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