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33183"/>
        <c:axId val="8382935"/>
      </c:barChart>
      <c:catAx>
        <c:axId val="88733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2935"/>
        <c:crosses val="autoZero"/>
        <c:auto val="1"/>
        <c:lblAlgn val="ctr"/>
        <c:lblOffset val="100"/>
        <c:noMultiLvlLbl val="0"/>
      </c:catAx>
      <c:valAx>
        <c:axId val="8382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33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720-1909-4CE2-80D0-081FEE0D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5B6-E457-43A2-A3C8-D76EE4C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815-DED2-42D0-8BC5-9BF0E7E1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26A-D921-44FC-9AF0-8292D644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CAA-F75D-4339-B1CC-2620DA17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4F3-AC9F-4BDA-BFBE-37E60775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806-E6B6-4113-BF18-E1C9BC8E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C57-2C28-4EF6-9B7F-7625C9F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C22-4DAC-42CA-8623-600ADFD0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007-B7DA-4A93-B40C-A9AA01CD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3A0-E748-40C2-8D85-37F44EBD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689-378F-43B4-A20B-EBFD036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E65A3-5728-4162-A41F-70C8F4FFDC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