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57838"/>
        <c:axId val="32741431"/>
      </c:barChart>
      <c:catAx>
        <c:axId val="11357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41431"/>
        <c:crosses val="autoZero"/>
        <c:auto val="1"/>
        <c:lblAlgn val="ctr"/>
        <c:lblOffset val="100"/>
        <c:noMultiLvlLbl val="0"/>
      </c:catAx>
      <c:valAx>
        <c:axId val="32741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57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475-D29C-456A-BE7B-10C7EDCA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A73-25C6-4F8B-BD2D-BA928340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2A9-B2A5-4850-A044-5C75AD7A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7CD-3676-45A7-9B89-EE17D47D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1091-F163-41DB-9C0E-B2CDBFB0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DAE-639B-4BF7-808A-EABB63ED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2C7-C115-4860-A09C-8F7CD6FF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997-DBAD-4697-98E6-52CECC69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93D-3FFA-4285-9ACB-8971853D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787-B965-45A1-9FA6-C544FEC5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AB59-9899-4BA8-A469-76A1C66B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D94-2052-4C2D-8816-3D080F3D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6AA25-9C28-481B-B2CC-E9C08791E4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