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66197"/>
        <c:axId val="56422999"/>
      </c:barChart>
      <c:catAx>
        <c:axId val="44566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22999"/>
        <c:crosses val="autoZero"/>
        <c:auto val="1"/>
        <c:lblAlgn val="ctr"/>
        <c:lblOffset val="100"/>
        <c:noMultiLvlLbl val="0"/>
      </c:catAx>
      <c:valAx>
        <c:axId val="56422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66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362-C212-4D43-A68E-653743FA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458-ABAC-4647-B27B-739619FE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858-C853-4328-A83C-62B8EE8C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9F2-77BE-4B37-89EC-CFC126C0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F3F-4A96-4605-A954-58092C74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E76-2ABA-44A0-9936-86513945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D96-E007-434B-945D-343ABD60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154-1B0F-4388-BECC-960E2CC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E46-9D92-4048-AF60-F6D847A4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382-F069-4C63-B1B7-5B4A4FB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FD1-A55D-40EA-AB44-66A5D7AA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BB6-8C8E-4391-88DE-C51C39E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FC829-9556-4F7B-A128-F5F90A2703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