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43424"/>
        <c:axId val="80441277"/>
      </c:barChart>
      <c:catAx>
        <c:axId val="31643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41277"/>
        <c:crosses val="autoZero"/>
        <c:auto val="1"/>
        <c:lblAlgn val="ctr"/>
        <c:lblOffset val="100"/>
        <c:noMultiLvlLbl val="0"/>
      </c:catAx>
      <c:valAx>
        <c:axId val="80441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43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4CA-BC5F-4727-A372-CE96C766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9B9-20DF-448D-B1EE-6E7D7BA5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4FB-7FA4-4A3D-ADFD-4BF64127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0A9-7068-4B05-AD2A-6EE79D27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BBF-6F05-4062-B25A-C106BEAE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C3A-0A80-459A-8483-655BF9EC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EC4-46EE-4E85-8482-F33D7E88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4C7-1E7E-46C7-83F2-6EC4B17B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A42-EFE1-49AE-A635-6CAC2572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396-8A23-469D-B8B4-1DB302FD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00E-E59D-42A0-AA94-3459479F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456-42F8-4D8B-A016-21E4B23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F55F9-361F-4870-89E7-116F1F16D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