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87776"/>
        <c:axId val="35312399"/>
      </c:barChart>
      <c:catAx>
        <c:axId val="89287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12399"/>
        <c:crosses val="autoZero"/>
        <c:auto val="1"/>
        <c:lblAlgn val="ctr"/>
        <c:lblOffset val="100"/>
        <c:noMultiLvlLbl val="0"/>
      </c:catAx>
      <c:valAx>
        <c:axId val="35312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87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D22-1836-4605-BB12-76EDA7A2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3A6-13D3-4631-BDD4-33D2193B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937-3F6E-4CD6-AB9C-D81AC0EB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966-48F8-4BFB-92B5-1361281A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C3D-F6AC-4234-AB29-E197F90A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9F7-EA4D-48C5-87AC-E0B83846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DD9-7172-49A9-8C4E-6D329D4B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CD2-E61C-4361-8DB4-44F804DD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B19-4FD9-47C7-9CB8-1091D280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ACA-9EDB-4FF0-89A1-CE6C952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8B7-43C2-4A6E-9366-47300E2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C5A-937A-4CD5-9261-4867AF47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22E28-0969-4E80-89BD-3E790DE028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