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1989"/>
        <c:axId val="78818731"/>
      </c:barChart>
      <c:catAx>
        <c:axId val="20619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18731"/>
        <c:crosses val="autoZero"/>
        <c:auto val="1"/>
        <c:lblAlgn val="ctr"/>
        <c:lblOffset val="100"/>
        <c:noMultiLvlLbl val="0"/>
      </c:catAx>
      <c:valAx>
        <c:axId val="788187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19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0A5-6633-4E8D-9506-AE13677D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1C4-F783-44B0-924B-1E21D9E2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8B71-6A07-44C1-A9F1-4275E6C9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AE54-71E3-4B49-ACEB-A1AE0A9B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20F-0A19-4783-8522-F3393EEB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2146-6C6B-4F38-90E7-1291054A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78C4-A671-48C7-AE73-5494C876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9F64-75ED-4B86-A8BA-36F1659B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504E-9312-4238-83F3-10D670CC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3F0-6006-4604-95AC-0325AC485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183D-6412-40AB-910D-F36417FF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B930-C5EE-467A-A3FA-212F69E6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A484D-9AEA-45E9-ACD2-EE6F2F709A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