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70215"/>
        <c:axId val="35505518"/>
      </c:barChart>
      <c:catAx>
        <c:axId val="26270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05518"/>
        <c:crosses val="autoZero"/>
        <c:auto val="1"/>
        <c:lblAlgn val="ctr"/>
        <c:lblOffset val="100"/>
        <c:noMultiLvlLbl val="0"/>
      </c:catAx>
      <c:valAx>
        <c:axId val="35505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70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021-3C58-4CD0-A33D-21ABE7FE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977-DD2C-44F9-BA0C-79FE8DE5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622-17A8-4777-B9A2-A61F874A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78C-68CC-4557-B305-E3183ED6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B3C-173B-45E3-A06D-1292F63A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ED2-D7A1-4687-8EDC-5D82D51E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0B9-896E-445D-94F7-09818158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FE5-C57A-4069-B19C-676C0680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BCA-5443-495D-B320-1613521F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F7D-1406-44E0-8CD8-2A02DA64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BAA-1890-4A9E-ABF2-9F713DF9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A69-BF09-4B15-B07E-F6E7BABB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FA4B2-F727-4AAE-A335-6A9E454B78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