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04862"/>
        <c:axId val="53846842"/>
      </c:barChart>
      <c:catAx>
        <c:axId val="78504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46842"/>
        <c:crosses val="autoZero"/>
        <c:auto val="1"/>
        <c:lblAlgn val="ctr"/>
        <c:lblOffset val="100"/>
        <c:noMultiLvlLbl val="0"/>
      </c:catAx>
      <c:valAx>
        <c:axId val="53846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4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FBA-A977-4A24-8210-E95931EC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439-5C39-4EEF-B3DE-FB873F2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AB7-8F6D-445C-AA45-876D7049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08A-2F99-4A56-A5A5-3EEDE6C3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E17-09A2-439A-9716-9BB9035E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966-C785-4D56-B263-E4CBD6D1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D6F-843C-423B-866C-210CC712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8C4-AA2D-4A65-9A9D-0B9ADCFC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252-5ECD-464A-8D63-D5DF559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E27-1407-4017-B228-62F4ED2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E5E-CADA-4FA9-AEEA-246EBEC3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24E-2650-4B58-8F97-5421C65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DD9A5-5F2F-439A-AF16-3F5F632E3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