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308130"/>
        <c:axId val="86269028"/>
      </c:barChart>
      <c:catAx>
        <c:axId val="623081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269028"/>
        <c:crosses val="autoZero"/>
        <c:auto val="1"/>
        <c:lblAlgn val="ctr"/>
        <c:lblOffset val="100"/>
        <c:noMultiLvlLbl val="0"/>
      </c:catAx>
      <c:valAx>
        <c:axId val="862690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3081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AC94-D4D8-4173-839C-7F1DD1FF2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8CAD-6A62-4EB5-BA83-027811D0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328C-EE5D-47AB-8F9E-9F3FFFE13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743E-FC90-4DCB-AFC5-088DB8990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DF65-B3EE-43E0-8A45-D795F302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4D8A-D630-4118-B4BC-387D5316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5BA9-1DB6-49C7-9FB8-971F7AF5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849B-2C8A-468B-988D-8C32CCEB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E3D9-C9CC-4395-B53D-76733CF1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9337-5D9E-4893-8D29-436BC229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D17A-B018-4033-8504-82925937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F559-6D11-4764-A2A0-954FC81A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00E7C-F07A-4487-B661-B7DF7645D2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