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07165"/>
        <c:axId val="20078828"/>
      </c:barChart>
      <c:catAx>
        <c:axId val="76307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8828"/>
        <c:crosses val="autoZero"/>
        <c:auto val="1"/>
        <c:lblAlgn val="ctr"/>
        <c:lblOffset val="100"/>
        <c:noMultiLvlLbl val="0"/>
      </c:catAx>
      <c:valAx>
        <c:axId val="2007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07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18C-59E7-468E-876C-4CF8C5E5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1BE-BEEB-4347-95A7-4FF6BDC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08B-2781-473A-812C-1E78B31B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E0E-0957-4ADF-8BA8-205D4EC9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E42-609F-4EB8-A06F-43057DA6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B02-C136-4DAA-B226-3AF1AEC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F70-E990-4308-8835-606435C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4E3-D1B4-4A3A-872B-1FD5D5CC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586-3A66-40FE-92AC-457988B8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285-9405-4FF6-A18F-C2792EA4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045-B59F-4D92-A54F-4CD628C8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238-771D-404C-AD05-95F17BB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2CBD1-B91A-4FBF-A1E3-768A4E6A0B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