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0890487"/>
        <c:axId val="2306888"/>
      </c:barChart>
      <c:catAx>
        <c:axId val="5089048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06888"/>
        <c:crosses val="autoZero"/>
        <c:auto val="1"/>
        <c:lblAlgn val="ctr"/>
        <c:lblOffset val="100"/>
        <c:noMultiLvlLbl val="0"/>
      </c:catAx>
      <c:valAx>
        <c:axId val="230688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089048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F8F2C-7458-4135-BA4F-FB5715E39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24189-B782-426D-BEEF-669EF51CE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7D6F6-AFBD-437F-A777-CB060534A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486C1-F83B-43D4-AE48-001008C57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39F91-E008-4409-9057-DC829F3E1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9740B-DBD3-4192-A5EB-1D8F7AA3A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D5738-E9E5-4561-ABD9-2E242AFFA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43F6C-0536-4329-B6EF-C8A9B8837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EF756-7939-4B79-8EB2-0DDF95145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078F8-81F3-443E-AB27-99A50649D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5C987-EB0F-417D-BE27-9EF1EBFF5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DB166-2C8D-469F-8579-793949E9B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FC9A02-DB41-4C26-A577-AC4433BE9B5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