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33082"/>
        <c:axId val="68041309"/>
      </c:barChart>
      <c:catAx>
        <c:axId val="92333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41309"/>
        <c:crosses val="autoZero"/>
        <c:auto val="1"/>
        <c:lblAlgn val="ctr"/>
        <c:lblOffset val="100"/>
        <c:noMultiLvlLbl val="0"/>
      </c:catAx>
      <c:valAx>
        <c:axId val="68041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33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FDA-E361-422C-91E3-47512955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AB9-99FD-4405-B5C1-FF79FBB6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CE3-44ED-4FD3-8639-DD617FC3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B2E-C500-4D39-BA78-D2A916A9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33E-0AAF-4EDB-B6DA-3942EA49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111-5A31-45B8-992A-ADA2ACB5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A36-FD45-4FF5-BF02-CE64D3B2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6F0-CC1D-40F9-9E02-9C678D8C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B52-D870-4AF1-8FDE-0E5F8143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A42-93C6-4A9A-8514-FB9DC23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B8E-CFD7-4274-A151-3131E971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BFE-B14D-4BFE-93CB-C2AFE6EC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C83E8-7565-4AEA-B491-744B06947D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