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11341"/>
        <c:axId val="89680720"/>
      </c:barChart>
      <c:catAx>
        <c:axId val="12711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80720"/>
        <c:crosses val="autoZero"/>
        <c:auto val="1"/>
        <c:lblAlgn val="ctr"/>
        <c:lblOffset val="100"/>
        <c:noMultiLvlLbl val="0"/>
      </c:catAx>
      <c:valAx>
        <c:axId val="89680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11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FE5-70BA-4D0D-9524-D45F7631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48E-3BE3-4D3E-8C52-42DB85FE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8AD-05EC-4720-AFF8-C9E42BFD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348-ACE1-45BA-A317-081FC56D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0B5-69D9-40FD-89AE-35365D32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109-6072-4E1D-A973-4702325D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BC2-7949-4257-A06F-8B001960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9CA-5968-479C-8694-5812DAAF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259-0B4D-4F64-AD3C-C5CC083B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EA8-43C6-4028-8579-58D6AD63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87F-2819-49D5-BB79-6561377E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8B3-7ACE-45FB-A2C0-E41FF14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4CDFA-FE49-4622-9700-862F2330EC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