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40184"/>
        <c:axId val="85359230"/>
      </c:barChart>
      <c:catAx>
        <c:axId val="68740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9230"/>
        <c:crosses val="autoZero"/>
        <c:auto val="1"/>
        <c:lblAlgn val="ctr"/>
        <c:lblOffset val="100"/>
        <c:noMultiLvlLbl val="0"/>
      </c:catAx>
      <c:valAx>
        <c:axId val="85359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40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A1D-3C7F-4DAC-833F-7811ADD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053-AA90-4848-B863-B399059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C31-E38E-42FD-9B8F-6C53E9E0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75C-CFC4-4D70-A34B-E8C374EF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23E-C311-46C7-8633-D3E9CC2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78D-2EF9-41B5-BDC0-354C1CA7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EBA-71C4-4566-A1AD-464C872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D21-26A6-472F-A96C-2BDF3333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42C-B6C5-4FF4-AC62-279FCC49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DA0-0BA0-4F77-AFB8-C8536C0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48B-D7A0-4B29-A9BE-7362867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B3C-3F4A-4154-A085-3D7074B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7BAED-74AC-4CFB-B5D4-2F2E6F2AA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