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29796"/>
        <c:axId val="74241210"/>
      </c:barChart>
      <c:catAx>
        <c:axId val="662979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241210"/>
        <c:crosses val="autoZero"/>
        <c:auto val="1"/>
        <c:lblAlgn val="ctr"/>
        <c:lblOffset val="100"/>
        <c:noMultiLvlLbl val="0"/>
      </c:catAx>
      <c:valAx>
        <c:axId val="7424121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2979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A355-7CAD-489D-B8CB-27073FB47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6D8-AE55-406A-AEFB-20DAAFA8D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2E656-0912-467E-A9B3-8EAD8508D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5D41D-CAAD-405A-9290-AE6A7F1CA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62F0-40F0-4661-8186-BF899EB4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EDD0C-5A92-4CD2-BD63-394D8B08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AC9F-0A23-42EA-AD3B-094886E44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FFB8-B188-463E-99DD-79D13D209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1A68-F7F2-4342-AB18-1FCAB1E55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D297-0657-4DCC-8CC3-E5F2697A4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D48E-877A-4ADA-85E9-4C57DFC7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4D861-2108-42E9-A336-38DE2F6A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F3A4B0-AD69-4EC3-AE0E-9C7CFD969C9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