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62168"/>
        <c:axId val="78774675"/>
      </c:barChart>
      <c:catAx>
        <c:axId val="10462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74675"/>
        <c:crosses val="autoZero"/>
        <c:auto val="1"/>
        <c:lblAlgn val="ctr"/>
        <c:lblOffset val="100"/>
        <c:noMultiLvlLbl val="0"/>
      </c:catAx>
      <c:valAx>
        <c:axId val="78774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62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833-1847-4874-8EDE-3E075CC2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D73-1F41-4E6C-9B1D-D58DD521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58B-0726-4596-BF31-4537A0FB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8E9-8A31-426F-8318-681597F6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B61-4E86-4D3C-B1BE-ABAA49FB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EA4-F054-4DDD-BE18-A123B7BB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B7C-0668-4AB9-B662-D77FBB15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BB7-AA8F-4BC5-A32F-664B6C90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7F4-C68A-4550-B51B-3FA6DAE2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BA0-02A6-4D29-A780-FB6857B5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83B-5DDD-4E86-80C7-260D4BAE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8A3-3BBB-4C40-933F-4166ECB0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0FD19-9F58-4F6A-9BC4-8F6732747A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