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35670"/>
        <c:axId val="81551077"/>
      </c:barChart>
      <c:catAx>
        <c:axId val="82735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51077"/>
        <c:crosses val="autoZero"/>
        <c:auto val="1"/>
        <c:lblAlgn val="ctr"/>
        <c:lblOffset val="100"/>
        <c:noMultiLvlLbl val="0"/>
      </c:catAx>
      <c:valAx>
        <c:axId val="815510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35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BAB-8B4D-4A49-AD5B-25619B4D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861-DD8C-499A-A080-24F63B65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A4F-39C9-4CC4-8BE5-2EEA2CAE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8072-AF0E-4094-A9F2-87D6A934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420-92B8-4B28-B114-6AFE9A49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31A3-1574-4ED6-87DF-DCD236B2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1F4-30BC-4B13-90A7-0A1DFED4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D13-7FE8-4EDA-9BA6-C4FF1EF1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4F2-3ED7-413D-A6A4-CF3A9598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0FF-9F00-4A62-9179-085E4BCB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093C-92BC-46EE-888A-2B516FDA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FB5-8EC3-4B30-875D-BC42A40C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CD063-8BD2-45D3-947D-71C03417D3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