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628"/>
        <c:axId val="95224763"/>
      </c:barChart>
      <c:catAx>
        <c:axId val="7625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24763"/>
        <c:crosses val="autoZero"/>
        <c:auto val="1"/>
        <c:lblAlgn val="ctr"/>
        <c:lblOffset val="100"/>
        <c:noMultiLvlLbl val="0"/>
      </c:catAx>
      <c:valAx>
        <c:axId val="95224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A6-D077-47E3-91B2-80F74152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6B8-F80E-40ED-9524-C62FA85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50B-24EA-4B30-8907-C1DF59DA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569-CC81-4067-98BF-83A069B8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AB1-E3FA-4C98-B39F-0CBAC78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40E-8B7D-4CE1-BB82-6EB12DB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B59-51DB-4FD9-97D3-C249CE51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1E2-886F-4AF3-87AD-ED43F5B8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F57-3976-45B6-8134-B922084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F3B-9956-45B8-9104-5FD5B87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53B-FD3D-43FE-A405-9CBF2E6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CBC-4892-41C7-AD55-1A05423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D2BFB-AC13-4399-B6AF-C7BE3B8763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