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504351"/>
        <c:axId val="28862954"/>
      </c:barChart>
      <c:catAx>
        <c:axId val="145043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862954"/>
        <c:crosses val="autoZero"/>
        <c:auto val="1"/>
        <c:lblAlgn val="ctr"/>
        <c:lblOffset val="100"/>
        <c:noMultiLvlLbl val="0"/>
      </c:catAx>
      <c:valAx>
        <c:axId val="288629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5043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9CBF-34F0-4E39-8BF0-31A3CA6C5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C2E4-13C9-4175-B6A4-209D15B7A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6440-71ED-4B02-BFF2-367179E73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93E1-1008-4645-9744-021BF1CB0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8983-B711-447D-8BC5-4641639A7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53AB-B2E5-4F67-8933-8D1407E1C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0B2B-7582-4FF0-A4CD-744F4BD1E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385A-21DE-4298-8BA2-528435A2E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68B2-8AB8-470C-97AB-6F22C8C24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1DB3-0847-4276-A81A-34FCAC5B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42F6-0EEC-4B70-A41B-DA039168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6289-3719-49E2-B99A-AE0A8B46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281260-B818-4A36-BE0F-54AE2418AB1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