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27052"/>
        <c:axId val="2820524"/>
      </c:barChart>
      <c:catAx>
        <c:axId val="42127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0524"/>
        <c:crosses val="autoZero"/>
        <c:auto val="1"/>
        <c:lblAlgn val="ctr"/>
        <c:lblOffset val="100"/>
        <c:noMultiLvlLbl val="0"/>
      </c:catAx>
      <c:valAx>
        <c:axId val="2820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7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3F7-7092-482E-8BFD-0A28102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359-22C1-423D-A2FF-308C2419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49F-FB6E-4EB7-8BF8-5E5B528A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DC7-79C5-4779-8081-B475597D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A3F-4400-40E5-AD2B-7D38ECB5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6F5-00C2-4881-93D4-E33AAE22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478-045B-44EB-B08F-A180F8F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5AB-EB92-40B5-B24B-2FFD8AE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30A-ADE4-4C29-93E4-9B2DE33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26D-2982-48AD-B37C-1B8B734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7B0-A406-411D-942A-EE9CAE51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B53-E415-46BD-8947-5D7E9008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29609-086B-4887-9E77-7E9CA0D86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