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17455"/>
        <c:axId val="42978810"/>
      </c:barChart>
      <c:catAx>
        <c:axId val="99217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78810"/>
        <c:crosses val="autoZero"/>
        <c:auto val="1"/>
        <c:lblAlgn val="ctr"/>
        <c:lblOffset val="100"/>
        <c:noMultiLvlLbl val="0"/>
      </c:catAx>
      <c:valAx>
        <c:axId val="42978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17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E25-B33B-46B8-B973-CDC0B86A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055D-3382-43ED-8CA2-EFEA5771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E48-8244-472A-AE94-740104E1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363-E540-4045-9CFF-76A7FBCC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AF5-06FB-47DC-B932-EE130DA2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1DA-3968-4568-92DD-6506FCEB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FB4-44CC-4298-B742-7E3647A0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F69E-9B84-4EDB-BDD5-52970DBC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117-FD5E-4B3D-943F-60A51EA4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C9F6-6A62-4A5D-8C54-086D4D14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CC2-00BA-43C5-BFEC-0CAB0ADC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EE9-0BE4-4290-B2D4-B41CF4A0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55DA7-454C-4CB3-8C98-018B89ACD9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