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95049"/>
        <c:axId val="99472544"/>
      </c:barChart>
      <c:catAx>
        <c:axId val="81695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72544"/>
        <c:crosses val="autoZero"/>
        <c:auto val="1"/>
        <c:lblAlgn val="ctr"/>
        <c:lblOffset val="100"/>
        <c:noMultiLvlLbl val="0"/>
      </c:catAx>
      <c:valAx>
        <c:axId val="99472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95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214-99BC-48C4-AD5D-FE4EAEE7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B49-E3A4-47A6-A462-24A957F0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F07-0777-474E-9F1F-AEB47ED2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4EF-8B75-4A43-91CC-0F265C1D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4E6-7E60-485C-A8A0-C9807C5C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DDA-2C35-4F94-896D-8CA1DB4B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EC3-75F9-4578-8AED-997D3695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848-3C71-4E89-A815-E83EEFC2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C17-9569-4E46-845B-DD2D5938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4DB-D1D5-48C2-BB44-F46B236A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BA4-3FB9-4990-BD25-0015D6A4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83C-04C7-4FCB-8734-C26ECB93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F857A-24F9-4079-9BB0-8CE37114A2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