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64932"/>
        <c:axId val="80872077"/>
      </c:barChart>
      <c:catAx>
        <c:axId val="32764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2077"/>
        <c:crosses val="autoZero"/>
        <c:auto val="1"/>
        <c:lblAlgn val="ctr"/>
        <c:lblOffset val="100"/>
        <c:noMultiLvlLbl val="0"/>
      </c:catAx>
      <c:valAx>
        <c:axId val="80872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64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031-26F0-4759-9801-FDA8BF94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688-5A2C-44A2-A498-CEC12673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61C-9467-4EC2-895A-BEC2935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761-7410-4D62-BFA8-1596321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CD8-BCB7-4CA4-B225-3C54CE1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1EB-C153-4083-98E3-8679929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DF6-A07D-422F-A2AC-51175C36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BAA-D414-431C-B463-F085279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BF3-0B43-45A8-8B5C-1C9FE0D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E43-99E0-40FF-B8C2-A862300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9DC-DC65-4EE5-9E1D-4F69F76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A0F-A242-4E4D-95D5-9FA41B7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546AF-3433-4FFB-881D-9369D103A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